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B6E-83BC-476E-8EF8-FC41A98B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DD3F-72A8-4C6F-B9E0-2C802CF78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8561-8220-4C16-8B86-1E8A9757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E36-F830-4CA2-8CC6-B75C170E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E42-FDFD-4695-B53E-231FC1F88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8FFE-1D3A-4FDD-B6A9-A3CB5A99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0950-FF1F-4CFE-850B-C7427B39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6B5E-3A53-48A3-8637-01BC6CBA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22D-4578-4ECF-A9D9-D67086A1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FBF-AFB2-4BD0-AB93-5065A6DE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D05-F514-4DEC-9DC2-D55A1B0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B69-2C78-4527-BD6B-822B7CD3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487-FD60-47E3-A58C-E508852D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123-B584-49AE-A20E-8EDC34C6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07B-0B65-4C98-A9BD-8CCD8BB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A64-D4B6-499D-A45A-18EF973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6AA-74DE-4BD5-9D71-225BBD8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B1B-3189-46A5-801D-52F5518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858-5B1B-489F-BE54-C3210E6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D82-7E36-44BF-8DD5-6E87570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EA9-54DF-49D2-B4A8-7B74335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574-8E15-4A17-89CD-18C2CF98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dding and Subtracting 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11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Signs --&gt; Add and keep the sig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83808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kay, here’s one with a variabl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 #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11b - (-2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– (-3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81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CorShape1"/>
          <p:cNvSpPr/>
          <p:nvPr/>
        </p:nvSpPr>
        <p:spPr>
          <a:xfrm rot="10800000">
            <a:off x="161640" y="249984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– (-2)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87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CorShape1"/>
          <p:cNvSpPr/>
          <p:nvPr/>
        </p:nvSpPr>
        <p:spPr>
          <a:xfrm rot="10800000">
            <a:off x="161640" y="39636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Use the number line if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(-1) + (-3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 5 + (-7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1104840" y="1803240"/>
          <a:ext cx="68961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803240"/>
                    <a:ext cx="6896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1141560" y="1963800"/>
            <a:ext cx="7315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-4) + 8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itio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When the signs are the s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and keep the sig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(-2) + (-4) = 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When the signs are differ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 and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(-2) + 4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 + (-4) =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Karaok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tion Rule: Sung to the tune of “Row, row, row, your boa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ame signs add and keep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fferent signs subtract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keep the sign of the higher number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hen it will be exac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r class do different rou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1 + 3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61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CorShape1"/>
          <p:cNvSpPr/>
          <p:nvPr/>
        </p:nvSpPr>
        <p:spPr>
          <a:xfrm rot="10800000">
            <a:off x="161640" y="323172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6 + (-3)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67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CorShape1"/>
          <p:cNvSpPr/>
          <p:nvPr/>
        </p:nvSpPr>
        <p:spPr>
          <a:xfrm rot="10800000">
            <a:off x="161640" y="176796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additive inverses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opposi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of two numbers add to equal z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of:  3 + (-3)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ill use the additive inverses for subtraction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2120" y="20574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dditive inverse of 3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e difference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- 3   and   7 + (-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 - 3 =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and 7 + (-3) =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nly difference is that 7 - 3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blem and 7 + (-3)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di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63de8"/>
                </a:solidFill>
                <a:latin typeface="Times New Roman"/>
              </a:rPr>
              <a:t>SUBTRACTING IS THE SAME AS ADDING THE OPPOSITE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(Keep-change-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subtracting, change the subtraction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ding the opposite (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kee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chang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chang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n follow your addition ru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#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- 4 - (-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. Signs --&gt; Subtract and use larger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#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 3 -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Signs --&gt; Add and keep the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psd</cp:lastModifiedBy>
  <dcterms:modified xsi:type="dcterms:W3CDTF">2012-09-21T12:09:13Z</dcterms:modified>
  <cp:revision>20</cp:revision>
  <dc:subject/>
  <dc:title>Add and Subtract Integers</dc:title>
</cp:coreProperties>
</file>